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D5EF-2F0C-484B-B9A9-092D8ADE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2AC-625E-4B71-8D75-C9CE3DAC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F75-BF07-434A-A201-4762B66B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259-2D44-4B33-8143-E12E33C9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F2B8-66E9-4D41-AEF2-3A5FCD8F3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9302-F75C-4D33-ABA9-409F9C5E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DCC-EA78-468A-8FA6-A29E6888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8646-DCFD-4567-A3DB-23BE7EDA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5083-1423-4FA1-BB4F-6F553BE3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37C-7289-4DCB-8353-C834F5F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A271-CB25-4FD7-998B-25FD385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102-A4B9-433B-97B0-0078BDF6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D1B6-5212-44BD-ADB3-FD8B35D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B1D6-C95F-45B0-8372-5AB927E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F2E-E514-461B-A1E0-65C508CB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D128-7479-4A35-AB28-9835B4E1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508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945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DA6D-2F37-4EAE-A128-6687071B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B57-38E6-4DDB-99BA-04751F28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4E0-63E4-42CD-A5A7-C22159EF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2D3-16E9-4EE9-A137-FE6B0F97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085760"/>
            <a:ext cx="822960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015-41B8-479C-BDAF-A870B8B7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10A-8C4B-4B25-9E20-152E995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945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0BF-3244-4DDB-82D5-A904F410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08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945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487-858E-4583-84CF-8B92BD3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3C79-D4F7-46BB-B72A-86B5B49851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3F1E-6EF9-4CFF-A82E-D68E7D9D0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736F-14DB-45EE-8186-7AD31447EB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8B5C-3005-4337-92BC-29E90DF37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83" name="Rectangle 7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2"/>
          <p:cNvSpPr/>
          <p:nvPr/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300" spc="-1" strike="noStrike">
                <a:solidFill>
                  <a:srgbClr val="333399"/>
                </a:solidFill>
                <a:latin typeface="Garamond"/>
              </a:rPr>
              <a:t>Напредък в изпълнението на ОП РЧР за 2012 г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Заседание на Съвета за координация при управление на средствата от 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(СКУСЕ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Garamond"/>
              </a:rPr>
              <a:t>София, 16 май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11"/>
          <p:cNvGraphicFramePr/>
          <p:nvPr/>
        </p:nvGraphicFramePr>
        <p:xfrm>
          <a:off x="304920" y="1600200"/>
          <a:ext cx="830556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8305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AA70-67FB-4E4E-BDB2-7AAD87CB12D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7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11"/>
          <p:cNvGraphicFramePr/>
          <p:nvPr/>
        </p:nvGraphicFramePr>
        <p:xfrm>
          <a:off x="380880" y="1371600"/>
          <a:ext cx="8001000" cy="497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371600"/>
                    <a:ext cx="8001000" cy="49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044C-26E9-432B-A43A-3C550A07C58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3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8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13"/>
          <p:cNvGraphicFramePr/>
          <p:nvPr/>
        </p:nvGraphicFramePr>
        <p:xfrm>
          <a:off x="0" y="1676520"/>
          <a:ext cx="8881920" cy="492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76520"/>
                    <a:ext cx="888192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2BF4-FD9A-4502-83C4-943E220453F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9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13"/>
          <p:cNvGraphicFramePr/>
          <p:nvPr/>
        </p:nvGraphicFramePr>
        <p:xfrm>
          <a:off x="304920" y="1143000"/>
          <a:ext cx="8515080" cy="524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51508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51A-D8CF-41D0-88CE-C0C9A963666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4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0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11"/>
          <p:cNvGraphicFramePr/>
          <p:nvPr/>
        </p:nvGraphicFramePr>
        <p:xfrm>
          <a:off x="152280" y="1523880"/>
          <a:ext cx="8610840" cy="5035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084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7C75-BDC7-4FDF-9CE8-9078B77FEB0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11"/>
          <p:cNvGraphicFramePr/>
          <p:nvPr/>
        </p:nvGraphicFramePr>
        <p:xfrm>
          <a:off x="228600" y="1828800"/>
          <a:ext cx="8534520" cy="472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8800"/>
                    <a:ext cx="8534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529-75BA-4160-8C9D-B9BB57D9845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5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11"/>
          <p:cNvGraphicFramePr/>
          <p:nvPr/>
        </p:nvGraphicFramePr>
        <p:xfrm>
          <a:off x="152280" y="1523880"/>
          <a:ext cx="8460000" cy="4913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46000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79B8-E617-4252-8544-7D4A44D88B2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6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Object 11"/>
          <p:cNvGraphicFramePr/>
          <p:nvPr/>
        </p:nvGraphicFramePr>
        <p:xfrm>
          <a:off x="0" y="1447920"/>
          <a:ext cx="8686800" cy="5192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47920"/>
                    <a:ext cx="86868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6B2-1E38-49A2-AC32-07FC048C2CC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7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Object 11"/>
          <p:cNvGraphicFramePr/>
          <p:nvPr/>
        </p:nvGraphicFramePr>
        <p:xfrm>
          <a:off x="0" y="1581120"/>
          <a:ext cx="8991720" cy="497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1120"/>
                    <a:ext cx="899172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EAE2-2C72-4E3F-B77E-4F80A65FF1F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РИОРИТЕТНА ОС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7</a:t>
            </a:r>
            <a:br>
              <a:rPr sz="2800"/>
            </a:br>
            <a:r>
              <a:rPr b="1" lang="bg-BG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Object 11"/>
          <p:cNvGraphicFramePr/>
          <p:nvPr/>
        </p:nvGraphicFramePr>
        <p:xfrm>
          <a:off x="0" y="1789200"/>
          <a:ext cx="8686800" cy="506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89200"/>
                    <a:ext cx="868680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23A-6CA0-4CDE-8D92-E031842D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8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CA7E-9352-403C-9D62-60E92B191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ПРОГРАМИРАНЕ НА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92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" name=""/>
          <p:cNvGraphicFramePr/>
          <p:nvPr/>
        </p:nvGraphicFramePr>
        <p:xfrm>
          <a:off x="457200" y="1951200"/>
          <a:ext cx="8229600" cy="4144320"/>
        </p:xfrm>
        <a:graphic>
          <a:graphicData uri="http://schemas.openxmlformats.org/drawingml/2006/table">
            <a:tbl>
              <a:tblPr/>
              <a:tblGrid>
                <a:gridCol w="5943600"/>
                <a:gridCol w="22860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юджет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74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5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грамира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раз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роцент от бюджета на ОП РЧ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4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тартирали процедури за предоставяне на безвъзмездна финансова помощ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р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бщ бюдж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923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023-1CD9-441C-A398-91C11F7D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ДЕЙНОСТИ ПО КОМУНИКАЦИЯ И ПУБЛИЧНОСТ ПРЕЗ 201</a:t>
            </a: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2</a:t>
            </a: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 г.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50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3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19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екламни радио и телевизионни клип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рубрики и репортаж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7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документални филм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Близо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60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0</a:t>
            </a: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 публикации в интернет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4 мащабни информационни събития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Информационни дни по 21 схеми и обучения по още 5 схеми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Garamond"/>
              </a:rPr>
              <a:t>Годишно информационно събитие за популяризиране на ОП РЧР – май 2012 г., проведено във всички областни градове. Обща продължителност два месеца</a:t>
            </a: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271" name="Rectangle 5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6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5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27EE-BF2A-421E-A8FE-E6AFA155E94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01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1.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jaune"/>
            <p:cNvPicPr/>
            <p:nvPr/>
          </p:nvPicPr>
          <p:blipFill>
            <a:blip r:embed="rId2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5" name=""/>
          <p:cNvGraphicFramePr/>
          <p:nvPr/>
        </p:nvGraphicFramePr>
        <p:xfrm>
          <a:off x="457200" y="1951200"/>
          <a:ext cx="8001000" cy="3701880"/>
        </p:xfrm>
        <a:graphic>
          <a:graphicData uri="http://schemas.openxmlformats.org/drawingml/2006/table">
            <a:tbl>
              <a:tblPr/>
              <a:tblGrid>
                <a:gridCol w="4013280"/>
                <a:gridCol w="2373120"/>
                <a:gridCol w="16146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Договор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027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азплатени сре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52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1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ер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5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 w="136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Сертифицирани разх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11 млн.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 w="13680">
                      <a:solidFill>
                        <a:srgbClr val="333399"/>
                      </a:solidFill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1.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r>
                        <a:rPr b="1" lang="bg-BG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19" descr="logo_bg[1]"/>
          <p:cNvPicPr/>
          <p:nvPr/>
        </p:nvPicPr>
        <p:blipFill>
          <a:blip r:embed="rId3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31"/>
          <p:cNvGraphicFramePr/>
          <p:nvPr/>
        </p:nvGraphicFramePr>
        <p:xfrm>
          <a:off x="228600" y="1981080"/>
          <a:ext cx="8686800" cy="4419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8686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0E4-8A61-493E-BC83-172038B56ECD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1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4"/>
          <p:cNvGraphicFramePr/>
          <p:nvPr/>
        </p:nvGraphicFramePr>
        <p:xfrm>
          <a:off x="228600" y="1600200"/>
          <a:ext cx="8763120" cy="5105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60020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5408-5724-41C3-9F9F-B76EC70FCB01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ФИНАНСОВ НАПРЕДЪК ПО ОП РЧР</a:t>
            </a:r>
            <a:endParaRPr b="1" lang="en-US" sz="32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2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15"/>
          <p:cNvGraphicFramePr/>
          <p:nvPr/>
        </p:nvGraphicFramePr>
        <p:xfrm>
          <a:off x="152280" y="1523880"/>
          <a:ext cx="8612280" cy="514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3880"/>
                    <a:ext cx="861228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2B1A-C952-4991-A558-B03932F254A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3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16"/>
          <p:cNvGraphicFramePr/>
          <p:nvPr/>
        </p:nvGraphicFramePr>
        <p:xfrm>
          <a:off x="41400" y="1214280"/>
          <a:ext cx="9024840" cy="450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14280"/>
                    <a:ext cx="902484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89AE-CC7A-4BA4-A588-4C05352C2BFA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1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4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1"/>
          <p:cNvGraphicFramePr/>
          <p:nvPr/>
        </p:nvGraphicFramePr>
        <p:xfrm>
          <a:off x="228600" y="1523880"/>
          <a:ext cx="868680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3880"/>
                    <a:ext cx="8686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1848-B52E-4B8D-88B5-446059C2815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ФИНАНСОВ НАПРЕДЪК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5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1"/>
          <p:cNvGraphicFramePr/>
          <p:nvPr/>
        </p:nvGraphicFramePr>
        <p:xfrm>
          <a:off x="0" y="1371600"/>
          <a:ext cx="8915400" cy="491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891540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Slide Number Placeholder 5"/>
          <p:cNvSpPr/>
          <p:nvPr/>
        </p:nvSpPr>
        <p:spPr>
          <a:xfrm>
            <a:off x="6934320" y="6553080"/>
            <a:ext cx="2133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AC72-FFDE-4588-AE58-49B7DBC34A3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08576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РИОРИТЕТНА ОС 2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постигнати резултати</a:t>
            </a:r>
            <a:endParaRPr b="1" lang="en-US" sz="2800" spc="-1" strike="noStrike">
              <a:solidFill>
                <a:srgbClr val="333399"/>
              </a:solidFill>
              <a:latin typeface="Garamond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3600" y="76320"/>
            <a:ext cx="9140400" cy="932040"/>
            <a:chOff x="3600" y="76320"/>
            <a:chExt cx="9140400" cy="932040"/>
          </a:xfrm>
        </p:grpSpPr>
        <p:sp>
          <p:nvSpPr>
            <p:cNvPr id="162" name="Rectangle 4"/>
            <p:cNvSpPr/>
            <p:nvPr/>
          </p:nvSpPr>
          <p:spPr>
            <a:xfrm>
              <a:off x="3600" y="762120"/>
              <a:ext cx="12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7315200" y="76212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bg-BG" sz="1000" spc="-1" strike="noStrike">
                  <a:solidFill>
                    <a:srgbClr val="000000"/>
                  </a:solidFill>
                  <a:latin typeface="Arial"/>
                </a:rPr>
                <a:t>Европейски социален фонд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1371600" y="212760"/>
              <a:ext cx="624852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ПРОЕКТ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BG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51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PO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001-8.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i="1" lang="ru-RU" sz="10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r>
                <a:rPr b="1" i="1" lang="bg-BG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Проект</a:t>
              </a:r>
              <a:r>
                <a:rPr b="0" i="1" lang="bg-BG" sz="1000" spc="-1" strike="noStrike">
                  <a:solidFill>
                    <a:srgbClr val="000000"/>
                  </a:solidFill>
                  <a:latin typeface="Verdana"/>
                </a:rPr>
                <a:t>ът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Verdana"/>
                </a:rPr>
                <a:t> се осъществява с финансовата подкрепа на Оперативна програма „Развитие на човешките ресурси”, съфинансирана от Европейския социален фонд на Европейския съю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cc"/>
                  </a:solidFill>
                  <a:latin typeface="Verdana"/>
                </a:rPr>
                <a:t>Инвестира във вашето бъдеще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3" descr="jaune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997200" cy="66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9" descr="logo_bg[1]"/>
          <p:cNvPicPr/>
          <p:nvPr/>
        </p:nvPicPr>
        <p:blipFill>
          <a:blip r:embed="rId5"/>
          <a:stretch/>
        </p:blipFill>
        <p:spPr>
          <a:xfrm>
            <a:off x="7772400" y="76320"/>
            <a:ext cx="1022400" cy="664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anaki Yanakiev</dc:creator>
  <dc:description/>
  <dc:language>en-US</dc:language>
  <cp:lastModifiedBy>v.olshevski</cp:lastModifiedBy>
  <dcterms:modified xsi:type="dcterms:W3CDTF">2013-05-10T14:33:04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